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677-6C4D-4796-8248-A86AC2BE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590-05C9-4ADF-82F1-A73A1F2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561-98F6-4F02-BB95-9E717E76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21D-2F64-41CB-B658-C108C59C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DB6-79EF-41CE-82E2-270F1E0C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095-5434-436A-856D-594B7A1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2CF-0464-4C54-AF93-71E012F7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13E-13CD-438F-A917-E5BDDB86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C95-D326-4D9B-8C87-FC7A71F3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4AB-3110-4765-A32C-0CC0C7E2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7DF-BB98-454E-B3E8-E2762CF7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EBC-D7A2-480C-9062-0AE673B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771E9-A651-47F8-9D18-EEC7BE48CB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102E1-46F9-478B-B281-54CB20571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Aver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Column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– circuit draw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6.1 Electric Circ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Column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1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raw a closed circuit – label all the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raw an open circuit – label all the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your light bulb is colored to show if it is lit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 Independent Practic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98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738080"/>
            <a:ext cx="4283280" cy="48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098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1738080"/>
            <a:ext cx="4275000" cy="48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610320" y="2746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1:03:07Z</dcterms:created>
  <dc:creator>Caroline Roth</dc:creator>
  <dc:description/>
  <dc:language>en-US</dc:language>
  <cp:lastModifiedBy>Caroline Roth</cp:lastModifiedBy>
  <cp:lastPrinted>2011-01-24T03:21:13Z</cp:lastPrinted>
  <dcterms:modified xsi:type="dcterms:W3CDTF">2011-05-24T23:33:35Z</dcterms:modified>
  <cp:revision>5</cp:revision>
  <dc:subject/>
  <dc:title>6.1 Electric Circuits</dc:title>
</cp:coreProperties>
</file>